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b60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7577-1E41-4E5D-9B19-6EB163DC0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28EB-A77E-4DF2-8669-100686AB72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have learned EQ/PBL/Assessment – what do we do with it?  How do we go about this shift? How do we pull it all toge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658F-9162-4629-BE4D-14BFA38179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is – that is why we are doing what we are doing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D230-446D-46E6-8DA0-47B216E0D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777096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4327560"/>
            <a:ext cx="777096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CAB3-800B-4670-905D-90F7B0CB3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496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32756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24960" y="432756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1656-AA9A-4D62-9444-AF9F17BFE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70640" y="180972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7920" y="180972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432756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70640" y="432756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7920" y="432756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643F-1F3E-4BB2-9F5B-7FFCE3231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809720"/>
            <a:ext cx="777096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DF23-22D8-465E-966A-484C8A9A2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777096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0BC1-695F-48B3-A08E-327464417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379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24960" y="1809720"/>
            <a:ext cx="379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A16F-94B8-4EAD-94E1-B85B2871A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F390-D2BB-43D3-B405-897924D76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456840"/>
            <a:ext cx="7761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0CF1-6609-47C0-BD55-CA2E9C254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4960" y="1809720"/>
            <a:ext cx="379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432756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F25F-ED80-45D9-BCF9-5067A0E33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379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496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24960" y="432756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F5B4-E14D-45E6-9C05-9637D19D6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496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4327560"/>
            <a:ext cx="777096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2E7D-73FC-45F7-98C2-2BDC46A2E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7440" y="6397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4B3E-04A4-46B6-9184-24D028507F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b60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143000" y="1809720"/>
            <a:ext cx="777096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255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1032"/>
          <p:cNvSpPr/>
          <p:nvPr/>
        </p:nvSpPr>
        <p:spPr>
          <a:xfrm>
            <a:off x="8229600" y="6338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0A2C-6FEF-4D46-911C-C5F6DF2CB1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380880"/>
            <a:ext cx="914400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93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tr-TR" sz="4400" spc="-1" strike="noStrike">
                <a:solidFill>
                  <a:srgbClr val="fdb605"/>
                </a:solidFill>
                <a:latin typeface="Arial"/>
              </a:rPr>
              <a:t>Okul Kültüründe </a:t>
            </a:r>
            <a:br>
              <a:rPr sz="4400"/>
            </a:br>
            <a:r>
              <a:rPr b="1" lang="tr-TR" sz="4400" spc="-1" strike="noStrike">
                <a:solidFill>
                  <a:srgbClr val="fdb605"/>
                </a:solidFill>
                <a:latin typeface="Arial"/>
              </a:rPr>
              <a:t>Değişim</a:t>
            </a:r>
            <a:r>
              <a:rPr b="1" lang="en-US" sz="4400" spc="-1" strike="noStrike">
                <a:solidFill>
                  <a:srgbClr val="fdb605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pic>
        <p:nvPicPr>
          <p:cNvPr id="49" name="Picture 4" descr="intel.tiff"/>
          <p:cNvPicPr/>
          <p:nvPr/>
        </p:nvPicPr>
        <p:blipFill>
          <a:blip r:embed="rId1"/>
          <a:stretch/>
        </p:blipFill>
        <p:spPr>
          <a:xfrm>
            <a:off x="5005440" y="750960"/>
            <a:ext cx="1041480" cy="76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MEB.tiff"/>
          <p:cNvPicPr/>
          <p:nvPr/>
        </p:nvPicPr>
        <p:blipFill>
          <a:blip r:embed="rId2"/>
          <a:stretch/>
        </p:blipFill>
        <p:spPr>
          <a:xfrm>
            <a:off x="3328920" y="73188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Kitap Banner.jpg"/>
          <p:cNvPicPr/>
          <p:nvPr/>
        </p:nvPicPr>
        <p:blipFill>
          <a:blip r:embed="rId3"/>
          <a:stretch/>
        </p:blipFill>
        <p:spPr>
          <a:xfrm>
            <a:off x="152280" y="1720800"/>
            <a:ext cx="88394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Sınıf Kültürünün Değiştirilmesi </a:t>
            </a:r>
            <a:r>
              <a:rPr b="1" lang="en-US" sz="4000" spc="-1" strike="noStrike" u="sng">
                <a:solidFill>
                  <a:srgbClr val="fdb605"/>
                </a:solidFill>
                <a:uFillTx/>
                <a:latin typeface="Arial"/>
              </a:rPr>
              <a:t>: </a:t>
            </a: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Öğrenciler için Yararları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74600"/>
            <a:ext cx="746784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in farklı düzeylerde öğrenmesine izin ver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 Bloom’un Taksonomisindeki üst düzey düşünme becerilerine – analiz, sentez, değerlendirme - eriş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 örüntüleri, yeterlikleri, ilişkileri keşfed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 iletişim ve sorun çözme becerilerini geliştir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parak öğrendikleri için öğrenme daha eğlenceli bir hale dönüşür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Başarı puanları yüksel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Sınıf Kültürünün Değiştirilmesi </a:t>
            </a:r>
            <a:r>
              <a:rPr b="1" lang="en-US" sz="4000" spc="-1" strike="noStrike" u="sng">
                <a:solidFill>
                  <a:srgbClr val="fdb605"/>
                </a:solidFill>
                <a:uFillTx/>
                <a:latin typeface="Arial"/>
              </a:rPr>
              <a:t>: </a:t>
            </a: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Öğretmenler için Yararları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Paha biçilemez bir deneyim sağla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in bireysel kavrayışlarını değerlendirmek için ek zaman yaratır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Farklı öğretim deneyimleri için fırsatlar yaratır – tüm öğrenciler etkileyici bir şekilde katkı sağlar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tmenler içeriği daha derinlemesine öğren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tme becerilerinin gelişmesi mesleki bir doyum sağla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le etkileşime girmek mutluluk vericid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fdb605"/>
                </a:solidFill>
                <a:uFillTx/>
                <a:latin typeface="Arial"/>
              </a:rPr>
              <a:t>Sonuçlar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9152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üresel ekonominin geleceği bugünün öğretmenlerinin elindedir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rınların çalışanları, karmaşık problemleri rekabetçi bir şekilde işbirliğine dayalı olarak çözebilen ve etkili bir şekilde iletişim kurabilen eleştirel düşünme becerisine sahip bireyler olmalıdır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rının çalışanları için, sınıf kültüründeki paradigma değişimi çok kritik bir role sahipt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Çabalarınızı destekleyeceğiz ve teşvik edeceğiz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db605"/>
                </a:solidFill>
                <a:latin typeface="Arial"/>
              </a:rPr>
              <a:t>Küresel Ekonominin Gerçekleri</a:t>
            </a:r>
            <a:endParaRPr b="1" lang="en-US" sz="32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328760" y="1676520"/>
            <a:ext cx="659592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Problemler ve sistemler karmaşıktı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üyük resmi kavramsallaştırabilme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Çoklu çözüm modelleri yaratabilme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sin doğruya ulaşabilme becerilerine sahip yaratıcı ve kıvrak düşünen bireylere gereksinim duyulmaktadı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rınların problemleri belirsizdir ve bazı beceri grupları tanımsızdı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sıl öğreneceğini ve bilgiyi nasıl yapılandırabileceğini bilen beyinlere ihtiyaç vardı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izen için dur durak bilmeyen bir isteğe ihtiyaç vardı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10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– </a:t>
            </a:r>
            <a:r>
              <a:rPr b="1" lang="tr-TR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ürekli iyileştir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– </a:t>
            </a:r>
            <a:r>
              <a:rPr b="1" lang="tr-TR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aşamboyu öğrenenl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Dünya pazarı son derece rekabetçid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İnsan zekası ana metadı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b605"/>
                </a:solidFill>
                <a:uFillTx/>
                <a:latin typeface="Arial"/>
              </a:rPr>
              <a:t>Paradigm</a:t>
            </a:r>
            <a:r>
              <a:rPr b="1" lang="tr-TR" sz="4400" spc="-1" strike="noStrike" u="sng">
                <a:solidFill>
                  <a:srgbClr val="fdb605"/>
                </a:solidFill>
                <a:uFillTx/>
                <a:latin typeface="Arial"/>
              </a:rPr>
              <a:t>a Değişimi Gereklidir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24200"/>
            <a:ext cx="792468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in ‘nasıl’ öğrendiğine ilişkin düşü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biz nasıl öğretebiliriz yaklaşımından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9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doğrudan öğretim il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9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bilgileri ezberleter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9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öğrenciye sürekli bilgi yükleyer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in bilgiyi yapılandırma sürecine etkin olarak katıldıkları sorgulamacı yaklaşıma doğru değişmelidi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9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Temel Soruların kullanıldığı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9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Proje Temelli Öğrenmenin işe koşulduğ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b605"/>
                </a:solidFill>
                <a:uFillTx/>
                <a:latin typeface="Arial"/>
              </a:rPr>
              <a:t>Paradigm</a:t>
            </a:r>
            <a:r>
              <a:rPr b="1" lang="tr-TR" sz="4400" spc="-1" strike="noStrike" u="sng">
                <a:solidFill>
                  <a:srgbClr val="fdb605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db605"/>
                </a:solidFill>
                <a:uFillTx/>
                <a:latin typeface="Arial"/>
              </a:rPr>
              <a:t> </a:t>
            </a:r>
            <a:r>
              <a:rPr b="1" lang="tr-TR" sz="4400" spc="-1" strike="noStrike" u="sng">
                <a:solidFill>
                  <a:srgbClr val="fdb605"/>
                </a:solidFill>
                <a:uFillTx/>
                <a:latin typeface="Arial"/>
              </a:rPr>
              <a:t>Değişimi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Dü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tm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rkezde, her şeyi bi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edilg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dinleyici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Ez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apalı uçlu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sorular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Bölünmüş öğret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Rekabet odakl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Bugün ve Yarı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tm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enarda, yol göst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etkin katılımcı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pılandır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vramla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ağlamlar ve bağlantıl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Açık uçl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niç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nasıl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sorular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Bütünleşik öğret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İşbirliği odakl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fdb605"/>
                </a:solidFill>
                <a:uFillTx/>
                <a:latin typeface="Arial"/>
              </a:rPr>
              <a:t>Değişimin Başlatılması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Değişim bir gecede gerçekleşecek bir şey değildi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ültürler uzun zaman dilimleri içinde geliş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üçük adımlarla yaklaşmak gerek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Sınıf iletişimi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üzerine odaklanarak başlayın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db605"/>
                </a:solidFill>
                <a:latin typeface="Arial"/>
              </a:rPr>
              <a:t>Sorgulama değişimi başlatacaktır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777096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imizi düşünmeye yöneltecek sorular sormalıyız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rneğ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yşe’nin söyledikleri hakkında ne düşünüyorsunu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öylediklerine katılıyor musunuz yoksa  farklı düşüncede olanlar var mı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iç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Farklı bir yanıtı olan var m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nıtınızın akla yatkın olduğu konusunda herkesi ikna edebilir misiniz?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524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Bunun tam tersi bir örnek gösterebilir misin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524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Bu sonuca nasıl vardınız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524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Açıklamak için bir model ya da resim yapabilir misiniz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524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Bu her zaman işe yarayacak mı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524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Bunu nasıl kanıtlarsın?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db605"/>
                </a:solidFill>
                <a:latin typeface="Arial"/>
              </a:rPr>
              <a:t>Daha Fazla Soru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777096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rnek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Eğer … olursa ne olur?  Olmazsa ne olur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örnek gördün m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için bu yaklaşımı tercih ett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ile bu nasıl ilişkilidi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için bu konuyu öğrenmenin bizim için önemli olduğunu düşünüyorsu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Anlayamadım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eyi anlamadını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Nasıl yaptın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asıl düşündü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Nası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 bilmiyorum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ana bununla ilgili bildiğin şeyleri anlatır mısın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formülünü unuttum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nu nasıl çözebiliri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ehmet, Elife </a:t>
            </a: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bunu niçin yaptığınızı anlatır mısın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? Ahme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ynı fikirde misi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fdb605"/>
                </a:solidFill>
                <a:uFillTx/>
                <a:latin typeface="Arial"/>
              </a:rPr>
              <a:t>Sınıf Kültürünün Değiştirilmesi</a:t>
            </a:r>
            <a:r>
              <a:rPr b="1" lang="en-US" sz="3600" spc="-1" strike="noStrike" u="sng">
                <a:solidFill>
                  <a:srgbClr val="fdb605"/>
                </a:solidFill>
                <a:uFillTx/>
                <a:latin typeface="Arial"/>
              </a:rPr>
              <a:t>: </a:t>
            </a: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Temel İlkeler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Öğretmen ve öğrenciler saygılı dinleyicilerdi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tüm katkılar değerlidi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hatta hatalar b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Bizler çoğunlukla hatalarımızdan öğreniri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Katılımcılar diğerlerine katkı sağlayarak diğerlerinin düşüncelerini açıklar ve geliştir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Herkesin öğrenmesi için herkes sorumluluk alır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fdb605"/>
                </a:solidFill>
                <a:uFillTx/>
                <a:latin typeface="Arial"/>
              </a:rPr>
              <a:t>Sınıf Kültürünün Değiştirilmesi</a:t>
            </a:r>
            <a:r>
              <a:rPr b="1" lang="en-US" sz="3600" spc="-1" strike="noStrike" u="sng">
                <a:solidFill>
                  <a:srgbClr val="fdb605"/>
                </a:solidFill>
                <a:uFillTx/>
                <a:latin typeface="Arial"/>
              </a:rPr>
              <a:t>: </a:t>
            </a: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Temel İlkeler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Bazen öğrenciler akranlarıyla (birebir), küçük gruplarda ve tüm sınıfla birlikte çalışırlar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Bazen diğer araçlarla (oyunlar, araştırma, teknoloji, vb.) öğrenmek daha da kolay olabili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Bazen doğrudan öğretim en iyi yöntem olabili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geçerli durumda en iyi yöntemi etkili bir şekilde kullanma gereksinimi – öğrenci ihtiyaçlarının dikkate alınması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Shelley Shott</dc:creator>
  <dc:description/>
  <dc:language>en-US</dc:language>
  <cp:lastModifiedBy>Levent SAGIROGLU (BilgeAdam)</cp:lastModifiedBy>
  <dcterms:modified xsi:type="dcterms:W3CDTF">2009-11-02T20:55:10Z</dcterms:modified>
  <cp:revision>439</cp:revision>
  <dc:subject/>
  <dc:title>Slide 1</dc:title>
</cp:coreProperties>
</file>